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AEA-22B4-4F9B-BE80-D33325B9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4DF-A1DC-45E2-87A6-FDD76BF1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E9E-5D89-47C6-87FE-63201980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DC51-7D0B-4C4D-982A-F33B1B37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8EE9-B304-478D-A033-02A06816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D816-3B45-4B43-9BB3-796D7B05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F4C0-2ACE-4A17-82F7-FC7DC17D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B2DE-3E4B-4714-A102-9CDC3560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E931-5FF8-46C7-A25A-9D83CE47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58FB-9336-480B-B34F-0AD5AA2E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A10C-31C5-4472-92A3-60417C7A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7CF-8DC7-4829-849C-FFE07F32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2B0C-E4C5-446A-A20F-D11FA09F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F74D-EEF6-43E1-9677-8CC0B271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794E-EC70-48C1-9057-760560F0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4110-1CBA-4788-B29A-1B738851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7B7C-23A6-4FDF-AFC5-CD7DCD0B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B167-BA97-4333-BE69-DDB2E8AB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182-9319-495B-8F38-BBA33104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2DC-61FB-41CB-B0B0-F6593A34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566-CEBB-4532-AF3F-C501288D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CD48-56ED-4D6B-BD66-D1D94E88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79C9-ECBC-44B0-89C6-879C261A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230-B277-4FA1-9B94-66FE9293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714F-D647-4A14-BBB3-DC0095BE26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237B-C3EF-4BC1-A48A-4DF5D9FAB9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Закон Ом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792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ИРМО «Хомутовская СОШ №2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ова В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шите задач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ока в спирали электрической лампы 0,7 А, сопротивление лампы 310Ом. Определите напряжение, под которым находится лам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флекс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но ли сказать, что я понимаю закон О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мне запомнилось на уроке больше вс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колько активным я был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ли у меня удовлетворенность от процесса изучения физ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: п.44, упр29(3)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аблица №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828800"/>
          <a:ext cx="8153640" cy="4114800"/>
        </p:xfrm>
        <a:graphic>
          <a:graphicData uri="http://schemas.openxmlformats.org/drawingml/2006/table">
            <a:tbl>
              <a:tblPr/>
              <a:tblGrid>
                <a:gridCol w="2038320"/>
                <a:gridCol w="2038680"/>
                <a:gridCol w="2038320"/>
                <a:gridCol w="2038320"/>
              </a:tblGrid>
              <a:tr h="138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зическая величи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обозначает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каких единицах измеряет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=q/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=A/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лектрическое сопроти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Собрать схему для резистора 1,2, снять показания амперметра и заполнить таблицу №2., сделать вывод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4190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кция по выполнению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рать схему, представленную на рисун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яя сопротивление в цепи (сначала подключить в цепь сопротивление 1 Ом, затем 2 Ом) , заполнить таб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Картинка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487680" cy="27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Экспериментально мы доказали, что     I~1/R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Рисунок 5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781680" cy="3962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81680" y="105372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Соберем показанную схему . Заполняем таблицу №3 и делаем вывод. 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4190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яя напряжение в цепи (сначала подключить в цепь 1 батарею, затем 2 соответственно), заполнить табл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6" descr=""/>
          <p:cNvPicPr/>
          <p:nvPr/>
        </p:nvPicPr>
        <p:blipFill>
          <a:blip r:embed="rId1"/>
          <a:stretch/>
        </p:blipFill>
        <p:spPr>
          <a:xfrm>
            <a:off x="768240" y="2209680"/>
            <a:ext cx="372744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Экспериментально мы доказали, что I ~ U, при  R=cons 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Рисунок 4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00100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Закон Ома читается так: “Сила тока в участке цепи прямо пропорциональна напряжению на концах этого участка и обратно пропорциональна его сопротивлению”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й закон немецкий физик Георг Ом открыл в 1827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"/>
          <p:cNvPicPr/>
          <p:nvPr/>
        </p:nvPicPr>
        <p:blipFill>
          <a:blip r:embed="rId1"/>
          <a:stretch/>
        </p:blipFill>
        <p:spPr>
          <a:xfrm>
            <a:off x="609480" y="2550960"/>
            <a:ext cx="7925040" cy="19051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img5"/>
          <p:cNvPicPr/>
          <p:nvPr/>
        </p:nvPicPr>
        <p:blipFill>
          <a:blip r:embed="rId2"/>
          <a:stretch/>
        </p:blipFill>
        <p:spPr>
          <a:xfrm>
            <a:off x="2743200" y="4456080"/>
            <a:ext cx="3657600" cy="209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09480" y="0"/>
            <a:ext cx="853452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       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Георг Ом (1787-1854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Рисунок 3" descr="http://festival.1september.ru/articles/212529/img1.jpg"/>
          <p:cNvPicPr/>
          <p:nvPr/>
        </p:nvPicPr>
        <p:blipFill>
          <a:blip r:embed="rId1"/>
          <a:stretch/>
        </p:blipFill>
        <p:spPr>
          <a:xfrm>
            <a:off x="1752480" y="1600200"/>
            <a:ext cx="4577040" cy="3962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К</dc:creator>
  <dc:description/>
  <dc:language>en-US</dc:language>
  <cp:lastModifiedBy>Валентина</cp:lastModifiedBy>
  <dcterms:modified xsi:type="dcterms:W3CDTF">2024-12-21T10:19:0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