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gif" ContentType="image/gif"/>
  <Override PartName="/ppt/media/image12.gif" ContentType="image/gif"/>
  <Override PartName="/ppt/media/image7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6.wmf" ContentType="image/x-wmf"/>
  <Override PartName="/ppt/media/image19.jpeg" ContentType="image/jpeg"/>
  <Override PartName="/ppt/media/image3.gif" ContentType="image/gif"/>
  <Override PartName="/ppt/media/image26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982-91F0-44E4-B9A1-73C42CD44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E74-4E48-4E9D-A682-359BD990B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374-7610-4AF2-8D3D-5BD59350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81F-1193-4652-A01D-403912E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123-21AE-4F27-B402-53B13AC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32D-8D22-47A5-88C2-E85E88C9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6BC-EF28-4317-9324-5FC38576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E886-5678-43D7-BC0C-F9256F9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7FF-817B-4972-8A13-20B8B05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10E0-27A1-43E7-9E8F-6884D29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5D5-6BB8-4FE2-A38D-071459D4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C46-B373-4B38-AF83-BFC33D1C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947E-51FE-41BA-B554-4D32882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5BD-8886-49F0-A0A2-00F63EE7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9A5F-F511-4372-BA63-C7C5285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7D7-5BC1-433C-ADDB-6FEBCFA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32B1-6363-4BFB-A3E8-D6FE6E8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331-BA68-4D5D-81F2-45185213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636E-F01B-4E4F-AD2C-7F35F397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7DE-C529-4E6B-9080-3DEC33B6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32A-1899-4139-AC31-D99B6C7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5EA-7B19-4BD8-829B-FB98EA5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659-9030-4003-826B-67E03D6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A0A-85C2-4B19-9366-78C0A9DC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F8F-180A-4A44-B093-F9E37DD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144-C9F2-4451-9231-EAD8F3B5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1335-AF52-4D08-A0B6-17CEBC51068A}" type="slidenum">
              <a:rPr b="0" lang="ru-RU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FD5F-6654-417B-A45E-5F0999E7A9EF}" type="slidenum">
              <a:rPr b="0" lang="ru-RU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5280" y="2133720"/>
            <a:ext cx="828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5280" y="83664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563c1"/>
                </a:solidFill>
                <a:latin typeface="Verdana"/>
              </a:rPr>
              <a:t>Тема: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7" descr="180px-Archimedes_(Graphik)"/>
          <p:cNvPicPr/>
          <p:nvPr/>
        </p:nvPicPr>
        <p:blipFill>
          <a:blip r:embed="rId1"/>
          <a:stretch/>
        </p:blipFill>
        <p:spPr>
          <a:xfrm>
            <a:off x="3348000" y="3213000"/>
            <a:ext cx="2654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j0283628"/>
          <p:cNvPicPr/>
          <p:nvPr/>
        </p:nvPicPr>
        <p:blipFill>
          <a:blip r:embed="rId1"/>
          <a:stretch/>
        </p:blipFill>
        <p:spPr>
          <a:xfrm>
            <a:off x="611280" y="2421000"/>
            <a:ext cx="2489040" cy="2462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3564000" y="1989000"/>
            <a:ext cx="525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И однажды, в ванне моясь, </a:t>
            </a:r>
            <a:br>
              <a:rPr sz="3000"/>
            </a:b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Погрузился он по пояс. </a:t>
            </a:r>
            <a:br>
              <a:rPr sz="3000"/>
            </a:b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На пол вылилась вода – </a:t>
            </a:r>
            <a:br>
              <a:rPr sz="3000"/>
            </a:b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Догадался он тогда, </a:t>
            </a:r>
            <a:br>
              <a:rPr sz="3000"/>
            </a:b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Как найти ОБЪЕМ короны, </a:t>
            </a:r>
            <a:br>
              <a:rPr sz="3000"/>
            </a:br>
            <a:r>
              <a:rPr b="0" lang="ru-RU" sz="3000" spc="-1" strike="noStrike">
                <a:solidFill>
                  <a:srgbClr val="0563c1"/>
                </a:solidFill>
                <a:latin typeface="Verdana"/>
              </a:rPr>
              <a:t>И помчался к Гиерон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9280" y="1915920"/>
            <a:ext cx="3888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Он промчался мимо стражи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– Эврика! Нашел решенье! –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Во дворец примчался он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– Я придумал, Гиерон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0" y="2205000"/>
            <a:ext cx="4284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ВРИК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корабль"/>
          <p:cNvPicPr/>
          <p:nvPr/>
        </p:nvPicPr>
        <p:blipFill>
          <a:blip r:embed="rId1"/>
          <a:srcRect l="0" t="0" r="0" b="-118"/>
          <a:stretch/>
        </p:blipFill>
        <p:spPr>
          <a:xfrm>
            <a:off x="179280" y="126828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8" descr="239965"/>
          <p:cNvPicPr/>
          <p:nvPr/>
        </p:nvPicPr>
        <p:blipFill>
          <a:blip r:embed="rId2"/>
          <a:srcRect l="0" t="0" r="-45" b="117"/>
          <a:stretch/>
        </p:blipFill>
        <p:spPr>
          <a:xfrm>
            <a:off x="5940360" y="4653000"/>
            <a:ext cx="3025800" cy="20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2951280" cy="2411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3132000" y="2637000"/>
            <a:ext cx="273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63c1"/>
                </a:solidFill>
                <a:latin typeface="Verdana"/>
              </a:rPr>
              <a:t>От каких же характеристик жидкости и тела зависит значение этой выталкивающей силы, действующей на погруженное в жидкость тел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4000" y="404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63c1"/>
                </a:solidFill>
                <a:latin typeface="Verdana"/>
              </a:rPr>
              <a:t>Вода производит на погруженное в неё тело выталкивающее действ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16" descr="klikun3"/>
          <p:cNvPicPr/>
          <p:nvPr/>
        </p:nvPicPr>
        <p:blipFill>
          <a:blip r:embed="rId4"/>
          <a:srcRect l="0" t="0" r="0" b="67"/>
          <a:stretch/>
        </p:blipFill>
        <p:spPr>
          <a:xfrm>
            <a:off x="5940360" y="1268280"/>
            <a:ext cx="3024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78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1-15-3"/>
          <p:cNvPicPr/>
          <p:nvPr/>
        </p:nvPicPr>
        <p:blipFill>
          <a:blip r:embed="rId1">
            <a:lum bright="-12000"/>
          </a:blip>
          <a:srcRect l="35114" t="18991" r="35719" b="21580"/>
          <a:stretch/>
        </p:blipFill>
        <p:spPr>
          <a:xfrm>
            <a:off x="1116000" y="1628640"/>
            <a:ext cx="2619360" cy="309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>
            <a:lum bright="-12000"/>
          </a:blip>
          <a:srcRect l="0" t="1137" r="0" b="0"/>
          <a:stretch/>
        </p:blipFill>
        <p:spPr>
          <a:xfrm>
            <a:off x="3714840" y="285840"/>
            <a:ext cx="5086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16000" y="1844280"/>
            <a:ext cx="7632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На погруженное в жидкость (или газ)</a:t>
            </a:r>
            <a:r>
              <a:rPr b="1" i="1" lang="en-US" sz="36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тело действует выталкива</a:t>
            </a:r>
            <a:r>
              <a:rPr b="1" i="1" lang="en-US" sz="3600" spc="-1" strike="noStrike">
                <a:solidFill>
                  <a:srgbClr val="0033cc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ющая сила, численно равная весу жидкости (газа), вытесненной телом, и приложенная </a:t>
            </a: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</a:t>
            </a:r>
            <a:r>
              <a:rPr b="1" i="1" lang="ru-RU" sz="3600" spc="-1" strike="noStrike">
                <a:solidFill>
                  <a:srgbClr val="0033cc"/>
                </a:solidFill>
                <a:latin typeface="Calibri"/>
              </a:rPr>
              <a:t>центру тяжести вытесненного телом объема жидкости (газа)</a:t>
            </a: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050920" y="83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Закон Архимеда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knig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592200"/>
            <a:ext cx="1150920" cy="93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785000" y="260280"/>
            <a:ext cx="912960" cy="129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5" name="Picture 9" descr=""/>
          <p:cNvPicPr/>
          <p:nvPr/>
        </p:nvPicPr>
        <p:blipFill>
          <a:blip r:embed="rId3"/>
          <a:stretch/>
        </p:blipFill>
        <p:spPr>
          <a:xfrm>
            <a:off x="7093080" y="5308560"/>
            <a:ext cx="17841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Group 35"/>
          <p:cNvGrpSpPr/>
          <p:nvPr/>
        </p:nvGrpSpPr>
        <p:grpSpPr>
          <a:xfrm>
            <a:off x="539640" y="1844640"/>
            <a:ext cx="8137440" cy="2518920"/>
            <a:chOff x="539640" y="1844640"/>
            <a:chExt cx="8137440" cy="2518920"/>
          </a:xfrm>
        </p:grpSpPr>
        <p:sp>
          <p:nvSpPr>
            <p:cNvPr id="148" name="Oval 27"/>
            <p:cNvSpPr/>
            <p:nvPr/>
          </p:nvSpPr>
          <p:spPr>
            <a:xfrm>
              <a:off x="2844720" y="1844640"/>
              <a:ext cx="345600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d7d31"/>
                  </a:solidFill>
                  <a:latin typeface="Verdana"/>
                </a:rPr>
                <a:t>Архимедова сил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39640" y="3213000"/>
              <a:ext cx="3313080" cy="11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ed7d31"/>
                  </a:solidFill>
                  <a:uFillTx/>
                  <a:latin typeface="Verdana"/>
                </a:rPr>
                <a:t>Не зависит от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Verdan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лотности те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) формы те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5364000" y="3213000"/>
              <a:ext cx="3313080" cy="115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ed7d31"/>
                  </a:solidFill>
                  <a:uFillTx/>
                  <a:latin typeface="Verdana"/>
                </a:rPr>
                <a:t>Зависит от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) плотности жидк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) объема те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H="1">
              <a:off x="1907640" y="2707920"/>
              <a:ext cx="180036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580000" y="2707920"/>
              <a:ext cx="17287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 Box 36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Закон Архимед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а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о значение Архимедовой силы, действующей на полностью погруженно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воду медный брусок массой 89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785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alibri Light"/>
              </a:rPr>
              <a:t>Легенда об Архимед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43040" y="1714680"/>
          <a:ext cx="6929640" cy="3954240"/>
        </p:xfrm>
        <a:graphic>
          <a:graphicData uri="http://schemas.openxmlformats.org/drawingml/2006/table">
            <a:tbl>
              <a:tblPr/>
              <a:tblGrid>
                <a:gridCol w="6929640"/>
              </a:tblGrid>
              <a:tr h="3954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br>
                        <a:rPr sz="1200"/>
                      </a:b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иракузский царь Гиерон захотел выяснить из чистого ли золота его корона и поручил эту задачу Архимеду. Трудность состояла в том, чтобы определить объём короны, которая имела очень сложную форму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ак-то Архимед принимал ванну, и тут ему в голову пришла блестящая идея: погружая корону в воду можно определить её объём, измерив, объём вытесненной ею воды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огласно легенде Архимед выскочил на улицу с криком «эврика», то есть «нашел». Так был открыт Закон Архим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8" name="Picture 1" descr="http://www.school-club.ru/vschool/kids/images/gray.gif"/>
          <p:cNvPicPr/>
          <p:nvPr/>
        </p:nvPicPr>
        <p:blipFill>
          <a:blip r:embed="rId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http://www.school-club.ru/vschool/kids/images/184-2-2.gif"/>
          <p:cNvPicPr/>
          <p:nvPr/>
        </p:nvPicPr>
        <p:blipFill>
          <a:blip r:embed="rId2"/>
          <a:stretch/>
        </p:blipFill>
        <p:spPr>
          <a:xfrm>
            <a:off x="3429000" y="5643720"/>
            <a:ext cx="3191040" cy="942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http://tambov.fio.ru/vjpusk/vjp026/rabot/38/corona1.gif"/>
          <p:cNvPicPr/>
          <p:nvPr/>
        </p:nvPicPr>
        <p:blipFill>
          <a:blip r:embed="rId3"/>
          <a:srcRect l="6272" t="0" r="6272" b="0"/>
          <a:stretch/>
        </p:blipFill>
        <p:spPr>
          <a:xfrm>
            <a:off x="3714840" y="0"/>
            <a:ext cx="207324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4" descr="portret2"/>
          <p:cNvPicPr/>
          <p:nvPr/>
        </p:nvPicPr>
        <p:blipFill>
          <a:blip r:embed="rId4">
            <a:lum bright="-12000"/>
          </a:blip>
          <a:srcRect l="15699" t="5250" r="23519" b="10958"/>
          <a:stretch/>
        </p:blipFill>
        <p:spPr>
          <a:xfrm>
            <a:off x="1071720" y="5286240"/>
            <a:ext cx="1255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Закрепление полученных зн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428840" y="2035080"/>
            <a:ext cx="62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63c1"/>
                </a:solidFill>
                <a:latin typeface="Verdana"/>
              </a:rPr>
              <a:t>Как Архимеда определил вес коро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887400" y="2904840"/>
            <a:ext cx="21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)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Verdana"/>
              </a:rPr>
              <a:t>ввозд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Verdana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913680" y="35481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12" descr="full_clip_image002"/>
          <p:cNvPicPr/>
          <p:nvPr/>
        </p:nvPicPr>
        <p:blipFill>
          <a:blip r:embed="rId1"/>
          <a:stretch/>
        </p:blipFill>
        <p:spPr>
          <a:xfrm>
            <a:off x="1319040" y="3500280"/>
            <a:ext cx="1081440" cy="541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3"/>
          <p:cNvSpPr/>
          <p:nvPr/>
        </p:nvSpPr>
        <p:spPr>
          <a:xfrm>
            <a:off x="913680" y="4284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14" descr="full_clip_image006"/>
          <p:cNvPicPr/>
          <p:nvPr/>
        </p:nvPicPr>
        <p:blipFill>
          <a:blip r:embed="rId2"/>
          <a:stretch/>
        </p:blipFill>
        <p:spPr>
          <a:xfrm>
            <a:off x="1319040" y="4219560"/>
            <a:ext cx="792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563c1"/>
                </a:solidFill>
                <a:latin typeface="Calibri Light"/>
              </a:rPr>
              <a:t>СПАСИБО ЗА ВНИМАНИЕ 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1" name="Picture 5" descr="j0336887"/>
          <p:cNvPicPr/>
          <p:nvPr/>
        </p:nvPicPr>
        <p:blipFill>
          <a:blip r:embed="rId1"/>
          <a:stretch/>
        </p:blipFill>
        <p:spPr>
          <a:xfrm>
            <a:off x="3059280" y="350028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971640" y="40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омашнее зада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.В. Перышкин “Физика-7” § 49, стр.117 упр.24 № 3,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ое задание: написать сочинение на тем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Если бы Архимедова сила исчезла…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8" descr="1-15-3"/>
          <p:cNvPicPr/>
          <p:nvPr/>
        </p:nvPicPr>
        <p:blipFill>
          <a:blip r:embed="rId1">
            <a:lum bright="-12000"/>
          </a:blip>
          <a:srcRect l="35114" t="18991" r="35719" b="21580"/>
          <a:stretch/>
        </p:blipFill>
        <p:spPr>
          <a:xfrm>
            <a:off x="6916680" y="3933720"/>
            <a:ext cx="1928880" cy="2279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 Light"/>
              </a:rPr>
              <a:t> 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Calibri Light"/>
              </a:rPr>
              <a:t>Актуализация знани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Rectangle 57"/>
          <p:cNvSpPr/>
          <p:nvPr/>
        </p:nvSpPr>
        <p:spPr>
          <a:xfrm>
            <a:off x="1042920" y="194940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Формула  давления  твёрдого  те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Обозначение  плотности  веще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Формула  давления  жидкости  на  дно  сосу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Давление  на  одном  уровне  больше  в  керосине  или  в  воде, если  плотность  воды  больше  плотности  керосин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Вес  тела  действует  на   ………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В  сосуд  с  водой  опустили  деревянный  брусок. Изменилось  ли  давление  воды  на  дно  сосуд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Изменяется  ли  давление  в  жидкости  при  погру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и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Одинаковы  ли  силы  давления,  которые  действу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т снизу  и  сверху  на  тело, погруженное  в  жидкость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 на  боковые  грани? Чем  это  можно  объясни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уда  направлена  равнодействующая  сил, действ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ющих  на  верхнюю  и  нижнюю  гран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9" descr="kniga"/>
          <p:cNvPicPr/>
          <p:nvPr/>
        </p:nvPicPr>
        <p:blipFill>
          <a:blip r:embed="rId2"/>
          <a:stretch/>
        </p:blipFill>
        <p:spPr>
          <a:xfrm>
            <a:off x="1116000" y="404640"/>
            <a:ext cx="1152360" cy="93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11"/>
          <p:cNvPicPr/>
          <p:nvPr/>
        </p:nvPicPr>
        <p:blipFill>
          <a:blip r:embed="rId3"/>
          <a:stretch/>
        </p:blipFill>
        <p:spPr>
          <a:xfrm>
            <a:off x="7858080" y="285840"/>
            <a:ext cx="9460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682560" y="512640"/>
            <a:ext cx="7620120" cy="743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079640" y="1580760"/>
            <a:ext cx="781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Формула  давления  твёрдого  тела.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Р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F/S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Обозначение  плотности  вещества.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Формула  давления  жидкости  на  дно  сосуда.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Р=ρ·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Давление  на  одном  уровне  больше  в  керосине  или  в  воде, если  плотность  воды  больше  плотности  керосина?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больше в вод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Вес  тела  действует  на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опору  или  подве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В  сосуд  с  водой  опустили  деревянный  брусок. Изменилось  ли  давление  воды  на  дно  сосуда?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не  изменилось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Изменяется  ли  давление  в  жидкости  при  погружении?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изменяетс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Одинаковы  ли  силы  давления,  которые  действуют  снизу  и  сверху  на  тело, погруженное  в  жидкость?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нет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  на  боковые  грани?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да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ем  это  можно  объясни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 Куда  направлена  равнодействующая  сил, действующих  на  верхнюю  и  нижнюю  гран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7" descr="1-15-3"/>
          <p:cNvPicPr/>
          <p:nvPr/>
        </p:nvPicPr>
        <p:blipFill>
          <a:blip r:embed="rId2"/>
          <a:srcRect l="35114" t="18991" r="35719" b="21580"/>
          <a:stretch/>
        </p:blipFill>
        <p:spPr>
          <a:xfrm>
            <a:off x="7524720" y="404640"/>
            <a:ext cx="97488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j0428261[1]"/>
          <p:cNvPicPr/>
          <p:nvPr/>
        </p:nvPicPr>
        <p:blipFill>
          <a:blip r:embed="rId3"/>
          <a:stretch/>
        </p:blipFill>
        <p:spPr>
          <a:xfrm>
            <a:off x="5643720" y="214200"/>
            <a:ext cx="17985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Закон Архимед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56840" y="4572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7030a0"/>
                </a:solidFill>
                <a:latin typeface="Calibri"/>
              </a:rPr>
              <a:t>На тело, погруженное в жидкость действует сила равная весу жидкости взятому в объёме данного тел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3"/>
          <p:cNvPicPr/>
          <p:nvPr/>
        </p:nvPicPr>
        <p:blipFill>
          <a:blip r:embed="rId1"/>
          <a:stretch/>
        </p:blipFill>
        <p:spPr>
          <a:xfrm>
            <a:off x="2428920" y="157176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http://festival.1september.ru/articles/632190/img10.jpg"/>
          <p:cNvPicPr/>
          <p:nvPr/>
        </p:nvPicPr>
        <p:blipFill>
          <a:blip r:embed="rId2"/>
          <a:stretch/>
        </p:blipFill>
        <p:spPr>
          <a:xfrm>
            <a:off x="1763640" y="907920"/>
            <a:ext cx="6048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corona1"/>
          <p:cNvPicPr/>
          <p:nvPr/>
        </p:nvPicPr>
        <p:blipFill>
          <a:blip r:embed="rId1"/>
          <a:stretch/>
        </p:blipFill>
        <p:spPr>
          <a:xfrm>
            <a:off x="-324000" y="2924280"/>
            <a:ext cx="3456000" cy="1778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419640" y="2276640"/>
            <a:ext cx="547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Жил в Сиракузах мудрец Архимед,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Был другом царя Гиерона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Какой для царя самый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Важный предмет? </a:t>
            </a:r>
            <a:br>
              <a:rPr sz="2100"/>
            </a:br>
            <a:r>
              <a:rPr b="1" lang="ru-RU" sz="2100" spc="-1" strike="noStrike">
                <a:solidFill>
                  <a:srgbClr val="0563c1"/>
                </a:solidFill>
                <a:latin typeface="Calibri"/>
              </a:rPr>
              <a:t>Вы все догадались – корона!</a:t>
            </a: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16360" y="2133360"/>
            <a:ext cx="59385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Захотелось Гиерону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Сделать новую корону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Золота отмерил строго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Взял не мало и не много,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Сколько нужно, в самый раз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Ювелиру дал заказ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И царю узнать охота: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Честно ль сделана работа?</a:t>
            </a:r>
            <a:r>
              <a:rPr b="0" lang="ru-RU" sz="26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j0178313"/>
          <p:cNvPicPr/>
          <p:nvPr/>
        </p:nvPicPr>
        <p:blipFill>
          <a:blip r:embed="rId1"/>
          <a:stretch/>
        </p:blipFill>
        <p:spPr>
          <a:xfrm>
            <a:off x="611280" y="2924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corona1"/>
          <p:cNvPicPr/>
          <p:nvPr/>
        </p:nvPicPr>
        <p:blipFill>
          <a:blip r:embed="rId1"/>
          <a:stretch/>
        </p:blipFill>
        <p:spPr>
          <a:xfrm>
            <a:off x="250920" y="1700280"/>
            <a:ext cx="3311280" cy="17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178313"/>
          <p:cNvPicPr/>
          <p:nvPr/>
        </p:nvPicPr>
        <p:blipFill>
          <a:blip r:embed="rId2"/>
          <a:stretch/>
        </p:blipFill>
        <p:spPr>
          <a:xfrm>
            <a:off x="971640" y="4005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40360" y="1773360"/>
            <a:ext cx="475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400" spc="-1" strike="noStrike">
                <a:solidFill>
                  <a:srgbClr val="0563c1"/>
                </a:solidFill>
                <a:latin typeface="Calibri"/>
              </a:rPr>
              <a:t>И позвал он Архимеда... </a:t>
            </a:r>
            <a:br>
              <a:rPr sz="3400"/>
            </a:br>
            <a:r>
              <a:rPr b="0" lang="ru-RU" sz="3400" spc="-1" strike="noStrike">
                <a:solidFill>
                  <a:srgbClr val="0563c1"/>
                </a:solidFill>
                <a:latin typeface="Calibri"/>
              </a:rPr>
              <a:t>Началась у них беседа. </a:t>
            </a:r>
            <a:br>
              <a:rPr sz="3400"/>
            </a:br>
            <a:r>
              <a:rPr b="0" lang="ru-RU" sz="3400" spc="-1" strike="noStrike">
                <a:solidFill>
                  <a:srgbClr val="0563c1"/>
                </a:solidFill>
                <a:latin typeface="Calibri"/>
              </a:rPr>
              <a:t>Гиерон: Вот корона, Архимед. </a:t>
            </a:r>
            <a:br>
              <a:rPr sz="3400"/>
            </a:br>
            <a:r>
              <a:rPr b="1" lang="ru-RU" sz="3400" spc="-1" strike="noStrike">
                <a:solidFill>
                  <a:srgbClr val="0563c1"/>
                </a:solidFill>
                <a:latin typeface="Calibri"/>
              </a:rPr>
              <a:t>    Золотая или нет?</a:t>
            </a:r>
            <a:r>
              <a:rPr b="0" lang="ru-RU" sz="26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277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1800" spc="-1" strike="noStrike">
                <a:solidFill>
                  <a:srgbClr val="0563c1"/>
                </a:solidFill>
                <a:latin typeface="Verdana"/>
              </a:rPr>
              <a:t>«Архимедова сил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j0282747"/>
          <p:cNvPicPr/>
          <p:nvPr/>
        </p:nvPicPr>
        <p:blipFill>
          <a:blip r:embed="rId1"/>
          <a:stretch/>
        </p:blipFill>
        <p:spPr>
          <a:xfrm>
            <a:off x="611280" y="1916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924360" y="1699920"/>
            <a:ext cx="4968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Но корону не царапать, не пилить..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И задумался ученый: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– Что известно? ВЕС короны.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 Ну а как найти ОБЪЕМ? </a:t>
            </a:r>
            <a:br>
              <a:rPr sz="2100"/>
            </a:br>
            <a:r>
              <a:rPr b="0" lang="ru-RU" sz="2100" spc="-1" strike="noStrike">
                <a:solidFill>
                  <a:srgbClr val="0563c1"/>
                </a:solidFill>
                <a:latin typeface="Calibri"/>
              </a:rPr>
              <a:t>Думал ночью, думал дне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69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563c1"/>
                </a:solidFill>
                <a:latin typeface="Verdana"/>
              </a:rPr>
              <a:t>Легенда об Архимед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3:51:14Z</dcterms:created>
  <dc:creator>Дмитрий Юрьевич</dc:creator>
  <dc:description/>
  <dc:language>en-US</dc:language>
  <cp:lastModifiedBy>Валентина</cp:lastModifiedBy>
  <dcterms:modified xsi:type="dcterms:W3CDTF">2024-12-21T12:48:4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40000000000010243100207f6000400038000</vt:lpwstr>
  </property>
</Properties>
</file>