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6909-8444-4D78-8123-C38DA73A4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F7AA-1B99-4C1B-932D-F0CB5CC40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FC79-BC14-42B8-B387-62AF5591F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E0D4-808D-4D55-B040-4C7AB1160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B8F96-8C05-4C89-86F5-D42CEBB74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45878-4712-4729-8E69-0785B2D1C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074CA-2F1F-466C-8FAA-3EA24A6CA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45E6D-23FE-441A-8E31-EA8B215A8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46CBF-FEC5-4074-A56A-F5E2AA3B6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8442A-EEF6-4CA9-A1B8-39C1F1BDB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BC771-92A2-4A43-B910-AEC917F1D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A20F-9573-44A6-81C6-902470DD8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49764-E6E6-4FF2-9A50-AB65C2B6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D3175-3883-4573-A86A-D5C61EB5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44055-CF34-4311-8E8E-B3B657E49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21E3A-CB95-48B2-8929-482580F0D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E51D5-F086-4A53-A592-EA8853EF6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7F9D3-8A2E-474B-9B53-70C73AE16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D3AB2-8374-4418-9CAA-7FA118973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B35E5-2C99-4F37-91FA-BA97DB810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1C7BB-ADA6-4ED2-9B51-B39FA9A11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B5615-4B82-4957-802D-9056B1F0E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5F2D-D3D0-4EAC-AE9D-EE97EE399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4974F-239A-40D6-8201-44A8457FB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1E568-0E27-465C-B814-55DB4A10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E34D3-9732-4ED3-9748-10B86808F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53FF8-ECB6-45F7-9BA6-52E5D47C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FCC3B-87E8-4D96-8EAB-BD239894F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FA9A2-6375-4635-99FA-BD4005CA2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A6B0B-B5EA-4258-B98C-49E3EE775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99FFA-B0CD-4932-8C37-E1ADAE3BD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FB256-1B9A-44BD-BC3F-16CAEF109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5F409-033E-46C7-B49F-3C300B90A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C825-26BD-4CC6-AAC6-2FDF1B01A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89CA2-4269-42A1-8F7E-8E97BAD70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F1DE3-F035-4801-89EE-960C74FF1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E9233-D8A3-489A-A6D1-3AF0154F9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35473-7BBD-4062-9D83-7291AC032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9B7F6-8358-4968-A7BA-498E23BE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3D8ED-2631-446D-9797-E8C1836B8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D09DC-94F2-4CCD-AF4B-8A05AE7AD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EE03B-499A-4869-88A4-47EC9A83D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FBCB5-0083-46DC-92AF-8F4809445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859F-4BFA-438B-8E9D-6D800DB00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6E69-3FC0-466A-8E06-0A8031CBF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59EA-B2E6-4836-AC8C-90BB6738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E5EC-C65B-49C0-A74C-E735499F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D31D-B2CB-4981-9858-E1EFE6BD5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2E3E7-A14B-4580-9E6F-A17CC50C7BD9}" type="slidenum">
              <a:rPr b="0" lang="ru-RU" sz="900" spc="-1" strike="noStrike">
                <a:solidFill>
                  <a:srgbClr val="90c226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9778B-89EA-4F11-8A5A-837C6043997A}" type="slidenum">
              <a:rPr b="0" lang="ru-RU" sz="900" spc="-1" strike="noStrike">
                <a:solidFill>
                  <a:srgbClr val="90c226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F5A7B-8151-46FC-8C13-69E78503E0AE}" type="slidenum">
              <a:rPr b="0" lang="ru-RU" sz="900" spc="-1" strike="noStrike">
                <a:solidFill>
                  <a:srgbClr val="90c226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239FB-16E5-4C51-9171-D63ECB13F8D8}" type="slidenum">
              <a:rPr b="0" lang="ru-RU" sz="900" spc="-1" strike="noStrike">
                <a:solidFill>
                  <a:srgbClr val="90c226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5400" spc="-1" strike="noStrike">
                <a:solidFill>
                  <a:srgbClr val="90c226"/>
                </a:solidFill>
                <a:latin typeface="Trebuchet MS"/>
              </a:rPr>
              <a:t>       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292400" y="4556160"/>
            <a:ext cx="7107120" cy="54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4" name="Picture 5" descr="Инструкция по технике безопасности для учащихся при выполнении лабораторных р..."/>
          <p:cNvPicPr/>
          <p:nvPr/>
        </p:nvPicPr>
        <p:blipFill>
          <a:blip r:embed="rId1"/>
          <a:stretch/>
        </p:blipFill>
        <p:spPr>
          <a:xfrm>
            <a:off x="609480" y="11160"/>
            <a:ext cx="7467840" cy="6019920"/>
          </a:xfrm>
          <a:prstGeom prst="rect">
            <a:avLst/>
          </a:prstGeom>
          <a:ln w="0">
            <a:noFill/>
          </a:ln>
        </p:spPr>
      </p:pic>
      <p:sp>
        <p:nvSpPr>
          <p:cNvPr id="215" name="Прямоугольник 1"/>
          <p:cNvSpPr/>
          <p:nvPr/>
        </p:nvSpPr>
        <p:spPr>
          <a:xfrm>
            <a:off x="1676520" y="5257800"/>
            <a:ext cx="505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ОУ ИРМО «Хомутовская СОШ №2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ванова В.Н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5400" spc="-1" strike="noStrike">
                <a:solidFill>
                  <a:srgbClr val="90c226"/>
                </a:solidFill>
                <a:latin typeface="Trebuchet MS"/>
              </a:rPr>
              <a:t>       </a:t>
            </a:r>
            <a:r>
              <a:rPr b="0" i="1" lang="ru-RU" sz="5400" spc="-1" strike="noStrike">
                <a:solidFill>
                  <a:srgbClr val="90c226"/>
                </a:solidFill>
                <a:latin typeface="Trebuchet MS"/>
              </a:rPr>
              <a:t>Содержание.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хема видов электростанций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8" name="Picture 2" descr="1. Перед выполнением работы: &#9;&#9;&#9;1.1 Будьте внимательны и дисциплинированны,..."/>
          <p:cNvPicPr/>
          <p:nvPr/>
        </p:nvPicPr>
        <p:blipFill>
          <a:blip r:embed="rId1"/>
          <a:stretch/>
        </p:blipFill>
        <p:spPr>
          <a:xfrm>
            <a:off x="609480" y="685800"/>
            <a:ext cx="80773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2. Во время выполнения работы: &#9;&#9;&#9;2.1 Располагайте приборы на рабочем месте в..."/>
          <p:cNvPicPr/>
          <p:nvPr/>
        </p:nvPicPr>
        <p:blipFill>
          <a:blip r:embed="rId1"/>
          <a:stretch/>
        </p:blipFill>
        <p:spPr>
          <a:xfrm>
            <a:off x="457200" y="533520"/>
            <a:ext cx="8229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3. По окончании выполнения работы: &#9;&#9;&#9;3.1 Аккуратно поставьте приборы в том п..."/>
          <p:cNvPicPr/>
          <p:nvPr/>
        </p:nvPicPr>
        <p:blipFill>
          <a:blip r:embed="rId1"/>
          <a:stretch/>
        </p:blipFill>
        <p:spPr>
          <a:xfrm>
            <a:off x="457200" y="609480"/>
            <a:ext cx="80773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457200" y="12189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Trebuchet MS"/>
              </a:rPr>
              <a:t>A=I*U*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15360" indent="-3153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А – работа электрического тока [Дж] (Джоуль)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15360" indent="-3153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I – сила тока [А] (Ампер)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15360" indent="-3153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U – напряжение [В] (Вольт)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15360" indent="-3153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t – время [с] (секунда)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2" name="Picture 10" descr="https://static-interneturok.cdnvideo.ru/content/konspekt_image/103774/463a3330_85cd_0131_783c_12313c0dade2.png"/>
          <p:cNvPicPr/>
          <p:nvPr/>
        </p:nvPicPr>
        <p:blipFill>
          <a:blip r:embed="rId1"/>
          <a:stretch/>
        </p:blipFill>
        <p:spPr>
          <a:xfrm>
            <a:off x="1295280" y="5105520"/>
            <a:ext cx="213372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Валентина</dc:creator>
  <dc:description/>
  <dc:language>en-US</dc:language>
  <cp:lastModifiedBy>Валентина</cp:lastModifiedBy>
  <dcterms:modified xsi:type="dcterms:W3CDTF">2024-12-21T10:20:49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